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503D-A075-4AC3-ABAB-9CF5AD8B6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E87A-B8F5-46A3-BE1E-2714F348F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F461-1D46-452B-A180-370BEFF0D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8323-AFF1-4D99-AF43-F97BCEE6A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F735-CB00-4841-B125-15B53B5B0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BF75-E206-460C-B7A5-283FEB5BB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197C-20DE-4A09-82FD-E2A739A11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4EF9-D66F-4D4E-859A-15D069FF0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3201-6406-46F6-94AD-AF6BDA294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01C3-A9C3-4C48-9C37-439EB850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84CC-6320-487D-8366-4C41EF28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235A-8605-4279-9FFC-91D33CC9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BCF74-01A6-4E92-B000-2CFE1A3C52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3490920" y="479520"/>
            <a:ext cx="2160000" cy="2948040"/>
            <a:chOff x="3490920" y="479520"/>
            <a:chExt cx="2160000" cy="2948040"/>
          </a:xfrm>
        </p:grpSpPr>
        <p:grpSp>
          <p:nvGrpSpPr>
            <p:cNvPr id="43" name=""/>
            <p:cNvGrpSpPr/>
            <p:nvPr/>
          </p:nvGrpSpPr>
          <p:grpSpPr>
            <a:xfrm>
              <a:off x="3490920" y="666360"/>
              <a:ext cx="2160000" cy="2761200"/>
              <a:chOff x="3490920" y="666360"/>
              <a:chExt cx="2160000" cy="2761200"/>
            </a:xfrm>
          </p:grpSpPr>
          <p:sp>
            <p:nvSpPr>
              <p:cNvPr id="44" name=""/>
              <p:cNvSpPr/>
              <p:nvPr/>
            </p:nvSpPr>
            <p:spPr>
              <a:xfrm rot="16200000">
                <a:off x="4449600" y="171720"/>
                <a:ext cx="240480" cy="1711800"/>
              </a:xfrm>
              <a:prstGeom prst="triangle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flipV="1">
                <a:off x="3714120" y="1026000"/>
                <a:ext cx="0" cy="35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055480" y="1026360"/>
                <a:ext cx="149040" cy="240120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flipV="1">
                <a:off x="4979880" y="666000"/>
                <a:ext cx="298440" cy="719640"/>
              </a:xfrm>
              <a:custGeom>
                <a:avLst/>
                <a:gdLst>
                  <a:gd name="textAreaLeft" fmla="*/ 65520 w 298440"/>
                  <a:gd name="textAreaRight" fmla="*/ 232920 w 298440"/>
                  <a:gd name="textAreaTop" fmla="*/ 158040 h 719640"/>
                  <a:gd name="textAreaBottom" fmla="*/ 561600 h 719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5352480" y="788400"/>
                <a:ext cx="298440" cy="4784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flipV="1">
                <a:off x="3490920" y="1266120"/>
                <a:ext cx="446400" cy="119160"/>
              </a:xfrm>
              <a:custGeom>
                <a:avLst/>
                <a:gdLst>
                  <a:gd name="textAreaLeft" fmla="*/ 97920 w 446400"/>
                  <a:gd name="textAreaRight" fmla="*/ 348480 w 446400"/>
                  <a:gd name="textAreaTop" fmla="*/ 26280 h 119160"/>
                  <a:gd name="textAreaBottom" fmla="*/ 9288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>
              <a:off x="4244400" y="4795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k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5437080" y="838080"/>
            <a:ext cx="142920" cy="14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372360" y="1920960"/>
            <a:ext cx="2159640" cy="2948040"/>
            <a:chOff x="6372360" y="1920960"/>
            <a:chExt cx="2159640" cy="2948040"/>
          </a:xfrm>
        </p:grpSpPr>
        <p:grpSp>
          <p:nvGrpSpPr>
            <p:cNvPr id="53" name=""/>
            <p:cNvGrpSpPr/>
            <p:nvPr/>
          </p:nvGrpSpPr>
          <p:grpSpPr>
            <a:xfrm>
              <a:off x="6372360" y="2107800"/>
              <a:ext cx="2159640" cy="2761200"/>
              <a:chOff x="6372360" y="2107800"/>
              <a:chExt cx="2159640" cy="2761200"/>
            </a:xfrm>
          </p:grpSpPr>
          <p:sp>
            <p:nvSpPr>
              <p:cNvPr id="54" name=""/>
              <p:cNvSpPr/>
              <p:nvPr/>
            </p:nvSpPr>
            <p:spPr>
              <a:xfrm rot="16200000">
                <a:off x="7331040" y="1613160"/>
                <a:ext cx="240480" cy="1711800"/>
              </a:xfrm>
              <a:prstGeom prst="triangle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V="1">
                <a:off x="6595560" y="2467440"/>
                <a:ext cx="0" cy="35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936560" y="2467800"/>
                <a:ext cx="149040" cy="240120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V="1">
                <a:off x="7860960" y="2107440"/>
                <a:ext cx="298440" cy="719640"/>
              </a:xfrm>
              <a:custGeom>
                <a:avLst/>
                <a:gdLst>
                  <a:gd name="textAreaLeft" fmla="*/ 65520 w 298440"/>
                  <a:gd name="textAreaRight" fmla="*/ 232920 w 298440"/>
                  <a:gd name="textAreaTop" fmla="*/ 158040 h 719640"/>
                  <a:gd name="textAreaBottom" fmla="*/ 561600 h 719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233560" y="2229840"/>
                <a:ext cx="298440" cy="4784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6372360" y="2707560"/>
                <a:ext cx="446400" cy="119160"/>
              </a:xfrm>
              <a:custGeom>
                <a:avLst/>
                <a:gdLst>
                  <a:gd name="textAreaLeft" fmla="*/ 97920 w 446400"/>
                  <a:gd name="textAreaRight" fmla="*/ 348480 w 446400"/>
                  <a:gd name="textAreaTop" fmla="*/ 26280 h 119160"/>
                  <a:gd name="textAreaBottom" fmla="*/ 9288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7125840" y="19209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k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3780000" y="6093000"/>
            <a:ext cx="1584000" cy="215640"/>
          </a:xfrm>
          <a:prstGeom prst="rect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all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79640" y="4653000"/>
            <a:ext cx="1584360" cy="216000"/>
          </a:xfrm>
          <a:prstGeom prst="rect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all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80000" y="4653000"/>
            <a:ext cx="1584360" cy="216000"/>
          </a:xfrm>
          <a:prstGeom prst="rect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all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050920" y="3933720"/>
            <a:ext cx="1440000" cy="719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317080" y="2278080"/>
            <a:ext cx="144360" cy="1429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35640" y="1052640"/>
            <a:ext cx="144360" cy="14436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17080" y="2494080"/>
            <a:ext cx="144360" cy="14436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62200" y="3933720"/>
            <a:ext cx="217440" cy="216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51280" y="5373720"/>
            <a:ext cx="1440000" cy="719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0920" y="3213000"/>
            <a:ext cx="1440000" cy="719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462560" y="5372280"/>
            <a:ext cx="217440" cy="21744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27280" y="3213000"/>
            <a:ext cx="289080" cy="21600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611640" y="1920960"/>
            <a:ext cx="2159640" cy="2948040"/>
            <a:chOff x="611640" y="1920960"/>
            <a:chExt cx="2159640" cy="2948040"/>
          </a:xfrm>
        </p:grpSpPr>
        <p:grpSp>
          <p:nvGrpSpPr>
            <p:cNvPr id="74" name=""/>
            <p:cNvGrpSpPr/>
            <p:nvPr/>
          </p:nvGrpSpPr>
          <p:grpSpPr>
            <a:xfrm>
              <a:off x="611640" y="2109600"/>
              <a:ext cx="2159640" cy="2759400"/>
              <a:chOff x="611640" y="2109600"/>
              <a:chExt cx="2159640" cy="2759400"/>
            </a:xfrm>
          </p:grpSpPr>
          <p:sp>
            <p:nvSpPr>
              <p:cNvPr id="75" name=""/>
              <p:cNvSpPr/>
              <p:nvPr/>
            </p:nvSpPr>
            <p:spPr>
              <a:xfrm flipH="1" rot="5400000">
                <a:off x="1571760" y="1614600"/>
                <a:ext cx="240120" cy="1711800"/>
              </a:xfrm>
              <a:prstGeom prst="triangle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V="1">
                <a:off x="2548080" y="2469240"/>
                <a:ext cx="0" cy="35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>
                <a:off x="1058040" y="2469240"/>
                <a:ext cx="149040" cy="23997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flipV="1">
                <a:off x="983880" y="2109240"/>
                <a:ext cx="298440" cy="718920"/>
              </a:xfrm>
              <a:custGeom>
                <a:avLst/>
                <a:gdLst>
                  <a:gd name="textAreaLeft" fmla="*/ 65520 w 298440"/>
                  <a:gd name="textAreaRight" fmla="*/ 232920 w 298440"/>
                  <a:gd name="textAreaTop" fmla="*/ 158040 h 718920"/>
                  <a:gd name="textAreaBottom" fmla="*/ 560880 h 71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611280" y="2231280"/>
                <a:ext cx="298440" cy="4780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324880" y="2709000"/>
                <a:ext cx="446400" cy="119160"/>
              </a:xfrm>
              <a:custGeom>
                <a:avLst/>
                <a:gdLst>
                  <a:gd name="textAreaLeft" fmla="*/ 97920 w 446400"/>
                  <a:gd name="textAreaRight" fmla="*/ 348480 w 446400"/>
                  <a:gd name="textAreaTop" fmla="*/ 26280 h 119160"/>
                  <a:gd name="textAreaBottom" fmla="*/ 9288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 flipH="1">
              <a:off x="1277280" y="19209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k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H="1">
            <a:off x="684360" y="2278080"/>
            <a:ext cx="142560" cy="144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83640" y="2494080"/>
            <a:ext cx="144360" cy="1429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58160" y="4889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54920" y="6308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852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3490920" y="479520"/>
            <a:ext cx="2160000" cy="2948040"/>
            <a:chOff x="3490920" y="479520"/>
            <a:chExt cx="2160000" cy="2948040"/>
          </a:xfrm>
        </p:grpSpPr>
        <p:grpSp>
          <p:nvGrpSpPr>
            <p:cNvPr id="88" name=""/>
            <p:cNvGrpSpPr/>
            <p:nvPr/>
          </p:nvGrpSpPr>
          <p:grpSpPr>
            <a:xfrm>
              <a:off x="3490920" y="666360"/>
              <a:ext cx="2160000" cy="2761200"/>
              <a:chOff x="3490920" y="666360"/>
              <a:chExt cx="2160000" cy="2761200"/>
            </a:xfrm>
          </p:grpSpPr>
          <p:sp>
            <p:nvSpPr>
              <p:cNvPr id="89" name=""/>
              <p:cNvSpPr/>
              <p:nvPr/>
            </p:nvSpPr>
            <p:spPr>
              <a:xfrm rot="16200000">
                <a:off x="4449600" y="171720"/>
                <a:ext cx="240480" cy="1711800"/>
              </a:xfrm>
              <a:prstGeom prst="triangle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>
                <a:off x="3714120" y="1026000"/>
                <a:ext cx="0" cy="35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055480" y="1026360"/>
                <a:ext cx="149040" cy="240120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>
                <a:off x="4979880" y="666000"/>
                <a:ext cx="298440" cy="719640"/>
              </a:xfrm>
              <a:custGeom>
                <a:avLst/>
                <a:gdLst>
                  <a:gd name="textAreaLeft" fmla="*/ 65520 w 298440"/>
                  <a:gd name="textAreaRight" fmla="*/ 232920 w 298440"/>
                  <a:gd name="textAreaTop" fmla="*/ 158040 h 719640"/>
                  <a:gd name="textAreaBottom" fmla="*/ 561600 h 719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352480" y="788400"/>
                <a:ext cx="298440" cy="4784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V="1">
                <a:off x="3490920" y="1266120"/>
                <a:ext cx="446400" cy="119160"/>
              </a:xfrm>
              <a:custGeom>
                <a:avLst/>
                <a:gdLst>
                  <a:gd name="textAreaLeft" fmla="*/ 97920 w 446400"/>
                  <a:gd name="textAreaRight" fmla="*/ 348480 w 446400"/>
                  <a:gd name="textAreaTop" fmla="*/ 26280 h 119160"/>
                  <a:gd name="textAreaBottom" fmla="*/ 9288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4244400" y="4795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k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5437080" y="838080"/>
            <a:ext cx="142920" cy="14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6372360" y="1920960"/>
            <a:ext cx="2159640" cy="2948040"/>
            <a:chOff x="6372360" y="1920960"/>
            <a:chExt cx="2159640" cy="2948040"/>
          </a:xfrm>
        </p:grpSpPr>
        <p:grpSp>
          <p:nvGrpSpPr>
            <p:cNvPr id="98" name=""/>
            <p:cNvGrpSpPr/>
            <p:nvPr/>
          </p:nvGrpSpPr>
          <p:grpSpPr>
            <a:xfrm>
              <a:off x="6372360" y="2107800"/>
              <a:ext cx="2159640" cy="2761200"/>
              <a:chOff x="6372360" y="2107800"/>
              <a:chExt cx="2159640" cy="2761200"/>
            </a:xfrm>
          </p:grpSpPr>
          <p:sp>
            <p:nvSpPr>
              <p:cNvPr id="99" name=""/>
              <p:cNvSpPr/>
              <p:nvPr/>
            </p:nvSpPr>
            <p:spPr>
              <a:xfrm rot="16200000">
                <a:off x="7331040" y="1613160"/>
                <a:ext cx="240480" cy="1711800"/>
              </a:xfrm>
              <a:prstGeom prst="triangle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V="1">
                <a:off x="6595560" y="2467440"/>
                <a:ext cx="0" cy="35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936560" y="2467800"/>
                <a:ext cx="149040" cy="240120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V="1">
                <a:off x="7860960" y="2107440"/>
                <a:ext cx="298440" cy="719640"/>
              </a:xfrm>
              <a:custGeom>
                <a:avLst/>
                <a:gdLst>
                  <a:gd name="textAreaLeft" fmla="*/ 65520 w 298440"/>
                  <a:gd name="textAreaRight" fmla="*/ 232920 w 298440"/>
                  <a:gd name="textAreaTop" fmla="*/ 158040 h 719640"/>
                  <a:gd name="textAreaBottom" fmla="*/ 561600 h 719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233560" y="2229840"/>
                <a:ext cx="298440" cy="4784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V="1">
                <a:off x="6372360" y="2707560"/>
                <a:ext cx="446400" cy="119160"/>
              </a:xfrm>
              <a:custGeom>
                <a:avLst/>
                <a:gdLst>
                  <a:gd name="textAreaLeft" fmla="*/ 97920 w 446400"/>
                  <a:gd name="textAreaRight" fmla="*/ 348480 w 446400"/>
                  <a:gd name="textAreaTop" fmla="*/ 26280 h 119160"/>
                  <a:gd name="textAreaBottom" fmla="*/ 9288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7125840" y="19209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k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3780000" y="6093000"/>
            <a:ext cx="1584000" cy="215640"/>
          </a:xfrm>
          <a:prstGeom prst="rect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all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79640" y="4653000"/>
            <a:ext cx="1584360" cy="216000"/>
          </a:xfrm>
          <a:prstGeom prst="rect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all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80000" y="4653000"/>
            <a:ext cx="1584360" cy="216000"/>
          </a:xfrm>
          <a:prstGeom prst="rect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all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050920" y="3213000"/>
            <a:ext cx="1440000" cy="719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317080" y="2278080"/>
            <a:ext cx="144360" cy="1429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1052640"/>
            <a:ext cx="144360" cy="14436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317080" y="2494080"/>
            <a:ext cx="144360" cy="14436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662200" y="3213000"/>
            <a:ext cx="217440" cy="216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050920" y="3933720"/>
            <a:ext cx="1440000" cy="719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51640" y="3933720"/>
            <a:ext cx="1439640" cy="719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662200" y="3932280"/>
            <a:ext cx="217440" cy="21744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227640" y="3933720"/>
            <a:ext cx="289080" cy="21600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611640" y="1920960"/>
            <a:ext cx="2159640" cy="2948040"/>
            <a:chOff x="611640" y="1920960"/>
            <a:chExt cx="2159640" cy="2948040"/>
          </a:xfrm>
        </p:grpSpPr>
        <p:grpSp>
          <p:nvGrpSpPr>
            <p:cNvPr id="119" name=""/>
            <p:cNvGrpSpPr/>
            <p:nvPr/>
          </p:nvGrpSpPr>
          <p:grpSpPr>
            <a:xfrm>
              <a:off x="611640" y="2109600"/>
              <a:ext cx="2159640" cy="2759400"/>
              <a:chOff x="611640" y="2109600"/>
              <a:chExt cx="2159640" cy="2759400"/>
            </a:xfrm>
          </p:grpSpPr>
          <p:sp>
            <p:nvSpPr>
              <p:cNvPr id="120" name=""/>
              <p:cNvSpPr/>
              <p:nvPr/>
            </p:nvSpPr>
            <p:spPr>
              <a:xfrm flipH="1" rot="5400000">
                <a:off x="1571760" y="1614600"/>
                <a:ext cx="240120" cy="1711800"/>
              </a:xfrm>
              <a:prstGeom prst="triangle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2548080" y="2469240"/>
                <a:ext cx="0" cy="35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>
                <a:off x="1058040" y="2469240"/>
                <a:ext cx="149040" cy="23997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 flipV="1">
                <a:off x="983880" y="2109240"/>
                <a:ext cx="298440" cy="718920"/>
              </a:xfrm>
              <a:custGeom>
                <a:avLst/>
                <a:gdLst>
                  <a:gd name="textAreaLeft" fmla="*/ 65520 w 298440"/>
                  <a:gd name="textAreaRight" fmla="*/ 232920 w 298440"/>
                  <a:gd name="textAreaTop" fmla="*/ 158040 h 718920"/>
                  <a:gd name="textAreaBottom" fmla="*/ 560880 h 71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11280" y="2231280"/>
                <a:ext cx="298440" cy="4780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 flipV="1">
                <a:off x="2324880" y="2709000"/>
                <a:ext cx="446400" cy="119160"/>
              </a:xfrm>
              <a:custGeom>
                <a:avLst/>
                <a:gdLst>
                  <a:gd name="textAreaLeft" fmla="*/ 97920 w 446400"/>
                  <a:gd name="textAreaRight" fmla="*/ 348480 w 446400"/>
                  <a:gd name="textAreaTop" fmla="*/ 26280 h 119160"/>
                  <a:gd name="textAreaBottom" fmla="*/ 9288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 flipH="1">
              <a:off x="1277280" y="19209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k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 flipH="1">
            <a:off x="684360" y="2278080"/>
            <a:ext cx="142560" cy="144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683640" y="2494080"/>
            <a:ext cx="144360" cy="1429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58160" y="4889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54920" y="6308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5852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7T13:47:11Z</dcterms:created>
  <dc:creator> AIAI</dc:creator>
  <dc:description/>
  <dc:language>en-US</dc:language>
  <cp:lastModifiedBy> AIAI</cp:lastModifiedBy>
  <dcterms:modified xsi:type="dcterms:W3CDTF">2008-08-07T16:34:59Z</dcterms:modified>
  <cp:revision>4</cp:revision>
  <dc:subject/>
  <dc:title>Slide 1</dc:title>
</cp:coreProperties>
</file>