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FEF1-7B43-4A84-84A7-D3D6F50CD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B219-DE03-4006-ABE6-D3C730565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9229-80BD-4F95-976E-96226C5D4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104B-1790-4FB7-B199-6975E6145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9581-290A-4615-836C-152A8CBAE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479F-3F3D-45CB-A8E8-A53EBE1A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DDFA-D6AA-437B-B312-826FDE699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2278-F22D-48D9-8F22-5F952B387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7D42-13D9-4969-BE4F-9BB0F61F6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1674-CA8E-4E34-B4CF-810446A0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C668-5D0C-4E83-A6B2-103A12B7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9FB6-E538-47D0-9BA3-3753DF07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5D204-25FB-4AB4-B158-053C34AC07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-DE Workf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85200" y="1447920"/>
            <a:ext cx="8633880" cy="5016240"/>
            <a:chOff x="385200" y="1447920"/>
            <a:chExt cx="8633880" cy="5016240"/>
          </a:xfrm>
        </p:grpSpPr>
        <p:sp>
          <p:nvSpPr>
            <p:cNvPr id="43" name=""/>
            <p:cNvSpPr/>
            <p:nvPr/>
          </p:nvSpPr>
          <p:spPr>
            <a:xfrm>
              <a:off x="4343400" y="3429000"/>
              <a:ext cx="91440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odif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raft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85200" y="4724280"/>
              <a:ext cx="175356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rom appl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358440" y="1981080"/>
              <a:ext cx="5634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d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578120" y="2209680"/>
              <a:ext cx="81612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wit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ane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666880" y="4572000"/>
              <a:ext cx="3200400" cy="642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urr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raf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255000" y="4572000"/>
              <a:ext cx="86652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ublis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67520" y="3886200"/>
              <a:ext cx="13572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ew doma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91200" y="5562720"/>
              <a:ext cx="14212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pen doma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0600" y="281952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962520" y="2209680"/>
              <a:ext cx="6094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962520" y="2362320"/>
              <a:ext cx="3808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506360" y="4572000"/>
              <a:ext cx="151272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o appl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666880" y="6095880"/>
              <a:ext cx="3200400" cy="368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aved Domain Mod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133720" y="4114800"/>
              <a:ext cx="53316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33720" y="49528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2133360" y="5791320"/>
              <a:ext cx="5331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2133720" y="5029200"/>
              <a:ext cx="53316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867280" y="48006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086600" y="4800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3657600" y="2362320"/>
              <a:ext cx="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800600" y="4114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3886200" y="3886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3886200" y="236196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724280" y="4114800"/>
              <a:ext cx="70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733920" y="3886200"/>
              <a:ext cx="70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491800" y="1447920"/>
              <a:ext cx="75384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lo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di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329280" y="5486400"/>
              <a:ext cx="16880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ave or Save 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91120" y="5181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91120" y="5867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3962520" y="1752120"/>
              <a:ext cx="15238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410080" y="3429000"/>
              <a:ext cx="91440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odif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raft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715000" y="21337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638680" y="41148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324480" y="3733920"/>
              <a:ext cx="259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5228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2T11:01:04Z</dcterms:created>
  <dc:creator>AIAI</dc:creator>
  <dc:description/>
  <dc:language>en-US</dc:language>
  <cp:lastModifiedBy>AIAI</cp:lastModifiedBy>
  <dcterms:modified xsi:type="dcterms:W3CDTF">2002-03-22T11:16:23Z</dcterms:modified>
  <cp:revision>2</cp:revision>
  <dc:subject/>
  <dc:title>I-DE Workflow</dc:title>
</cp:coreProperties>
</file>